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EDA4F-18C4-45E9-BF7E-40802C2DC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1C0DE-6187-4303-9EFF-619DB63D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9C4F4-8B95-42B4-B8C5-B2CDFCC3F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41C0E-59BC-4C27-A7F9-440F4BE6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0059-A4A3-4CEA-9E70-887B2AB22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7B4E-EE41-42E6-96CE-FD82D6D8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6A10-F8E0-4095-8460-687DE0CB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2B30-9136-4E02-A9F7-53813ABA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0B95-7780-429E-833B-54A28E06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F230-CF75-454A-82ED-A0DC0B9A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2537-51B8-4F66-BA0E-908BAFEE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2D995-D7F2-492F-AF36-8B08E5CF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3480-6558-45DD-A89C-978C6C67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8719-8987-446A-9063-1F570C7F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E392-6267-4C01-8FBD-33F2AC99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B8B8-03E0-4D74-AE99-FE6D6B04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7D89-1BEE-4CB1-8D03-74F87AF5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A3557-641A-4826-8125-7B39F1C0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F269E-D2EE-4DB8-BA3E-1E2D24DD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2E976-196B-491F-9160-E570066B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8CD26-9A4A-46AD-99B8-D71478A2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0368E-77AA-485F-8A5A-24750844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D7125-A118-46A5-82B3-8978FFE7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18413-58D2-421F-9236-5F0EC961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B5A7-EC04-4093-A4F3-003420D74A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45F8-1697-4BC3-A237-81D3BC2711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Sir, We Would See Jesu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arter 10, Lesson 1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 12:18-4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pages 139-144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Widow’s Mite</a:t>
            </a:r>
            <a:br>
              <a:rPr sz="3900"/>
            </a:b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 12:41-44;Luke 21;1-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alue of gift is not determined by its am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mportance is the spirit in which it is gi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ich gave out of their abund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idow gave out of her genero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should not give grudgingly or out of neces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loves a cheerful g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739160" y="520200"/>
            <a:ext cx="6884280" cy="11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he Sadducees Question Jesus</a:t>
            </a: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 12:18-27;Matt. 22:23-33;Luke 20:27-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09120" y="198108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adducees deny there is a resurr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es wrote about laws of marriage when death occurs to a husb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adducees pose a difficult situation &amp; question to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f: there were 7 brothers &amp; the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ok a wife &amp; died without child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like manner, the 6 left no children &amp; died &amp; last of all the woman died al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39160" y="520200"/>
            <a:ext cx="6884280" cy="11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he Sadducees Question Jesus</a:t>
            </a: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 12:18-27;Matt. 22:23-33;Luke 20:27-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8284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Question: In the resurrection, whose wife does she become? For all 7 had her as a w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answered: You are mistaken, not knowing the Scriptures, nor the power of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riage will not be needed in hea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es showed in the burning bush passage that the dead are rai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is not the God of the dead but the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dducees silen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 Scribe Questions Jesus</a:t>
            </a:r>
            <a:br>
              <a:rPr sz="3900"/>
            </a:b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 12:28-34;Matt. 22:34-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cribe or lawyer- one that is learned or skilled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aw of M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cribe, tempting or trying Jesus, asked: “which is the great commandment in the Law ?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answered: to put God first in heart, soul &amp; m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continued further: the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liken unto it, you shall love thy neighbor as thy 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 Scribe Questions Jesus</a:t>
            </a:r>
            <a:br>
              <a:rPr sz="3900"/>
            </a:b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 12:28-34;Matt. 22:34-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ice: Jesus didn’t say it was the greatest but the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 foremost ) great commandment &amp; the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s like the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summed up the entire Law of Commandments with these 2 pre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: the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4 Commandments deal with our attitude toward God; the other 6 deal with our relationships to our fellow 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: Did the scribe change his intention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Jesus Poses A Question</a:t>
            </a:r>
            <a:br>
              <a:rPr sz="39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 12: 35-37;Matt. 22: 41-46; Luke 20: 41-4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asked the Pharisees : “ What do you think of the Christ ? Whose Son is He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asked a fair question but couldn’t be explained without exposing their opposition to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quotes Psalm 110 : 1 where David reveals Christ to be his L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harisees denied the divinity of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rgument of Jesus- how could David recognize Jesus as His Lord if He was only his s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e To The Scribes &amp; Pharise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k 12:38-40;Matt. 23:1-39; Luke 20:45-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had answered the Pharisees, the Sadducees, &amp; the Herodia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delivers a scathing condemnation to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disciples are there present in the temple to learn about the attitude of these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exposes their hypocris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3480" indent="-476280">
              <a:spcBef>
                <a:spcPts val="624"/>
              </a:spcBef>
              <a:buClr>
                <a:srgbClr val="0078f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ey do all their works to make show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33480" indent="-476280">
              <a:spcBef>
                <a:spcPts val="624"/>
              </a:spcBef>
              <a:buClr>
                <a:srgbClr val="0078f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ey love the chief seats in the synagogu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33480" indent="-476280">
              <a:spcBef>
                <a:spcPts val="624"/>
              </a:spcBef>
              <a:buClr>
                <a:srgbClr val="0078f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ey love to have men call them rabbi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3348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e To The Scribes &amp; Pharise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k 12:38-40;Matt. 23:1-39; Luke 20:45-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speaks directly to the scribes &amp; Pharis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 times in Matthew 23, Jesus pronounces woe upon the scribes &amp; Pharis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d woe means grief or dismay &amp; is intended to mean great calamity is in st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woes are meant to show the inconsistency &amp; hypocrisy of the scribes &amp; Pharis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thew 23:37-39 show that Jesus had compassion for his people even though they rejected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Widow’s Mite</a:t>
            </a:r>
            <a:br>
              <a:rPr sz="3900"/>
            </a:b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 12:41-44;Luke 21;1-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watched those who were contributing to the treas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13 chests shaped like trumpets in which religious &amp; benevolent contributions were pla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saw the rich put a lot of money in the ch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also saw the poor widow put in 2 mites ( small copper coins ) worth about 1 c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8T21:06:39Z</dcterms:created>
  <dc:creator>robert marshall</dc:creator>
  <dc:description/>
  <dc:language>en-US</dc:language>
  <cp:lastModifiedBy>robert marshall</cp:lastModifiedBy>
  <dcterms:modified xsi:type="dcterms:W3CDTF">2006-08-08T19:32:38Z</dcterms:modified>
  <cp:revision>6</cp:revision>
  <dc:subject/>
  <dc:title>Sir, We Would See Jes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6608235</vt:r8>
  </property>
  <property fmtid="{D5CDD505-2E9C-101B-9397-08002B2CF9AE}" pid="3" name="_AuthorEmail">
    <vt:lpwstr>robertdmarshall@bellsouth.net</vt:lpwstr>
  </property>
  <property fmtid="{D5CDD505-2E9C-101B-9397-08002B2CF9AE}" pid="4" name="_AuthorEmailDisplayName">
    <vt:lpwstr>Robert Marshall</vt:lpwstr>
  </property>
  <property fmtid="{D5CDD505-2E9C-101B-9397-08002B2CF9AE}" pid="5" name="_EmailSubject">
    <vt:lpwstr>Q10L11.ppt</vt:lpwstr>
  </property>
</Properties>
</file>